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9.png" ContentType="image/png"/>
  <Override PartName="/ppt/media/image13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6118-EBEF-46FD-ADB7-0C134BD52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E35B-15DA-4BEB-9137-09E10458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07B3-083D-4C7F-A299-5A50CF28E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DE14-CCCD-4F4C-8C1D-3458E11A3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CE9A-6147-4827-ADCB-7D8F9448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BC64-E2EB-4299-B73C-9BB860E8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2617-E535-4D88-ACB8-8F8886AC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9916-BB00-4924-A76A-DBB27F11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532D-CB02-434F-BE6C-4745F1BA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4464-AECA-431B-B841-DB1BD7AF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EE27-ED2B-4DEA-93BF-916320BA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B3D7-3EE3-4F5E-8D45-97E0ABFD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38AE-6BD2-43CA-AA3F-2A10A51EF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ogcon.com/gamegoo/games/squanky2/squanky2.html" TargetMode="External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" Target="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7.xml"/><Relationship Id="rId3" Type="http://schemas.openxmlformats.org/officeDocument/2006/relationships/slide" Target="slide16.xml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8.xml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echno"/>
              </a:rPr>
              <a:t>What are Synonyms and Antonyms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24080" y="6248160"/>
            <a:ext cx="56390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echno"/>
              </a:rPr>
              <a:t>Created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echno"/>
              </a:rPr>
              <a:t>Beth Schumac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bd05090_"/>
          <p:cNvPicPr/>
          <p:nvPr/>
        </p:nvPicPr>
        <p:blipFill>
          <a:blip r:embed="rId2"/>
          <a:stretch/>
        </p:blipFill>
        <p:spPr>
          <a:xfrm>
            <a:off x="838080" y="3657600"/>
            <a:ext cx="2514600" cy="227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echno"/>
              </a:rPr>
              <a:t>Are you ready to play a synonym Gam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66ff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echno"/>
              </a:rPr>
              <a:t>Click the picture to play the ga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7" descr="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71800" y="3581280"/>
            <a:ext cx="3352680" cy="268308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0">
            <a:hlinkClick r:id="rId4" action="ppaction://hlinksldjump"/>
          </p:cNvPr>
          <p:cNvSpPr/>
          <p:nvPr/>
        </p:nvSpPr>
        <p:spPr>
          <a:xfrm>
            <a:off x="7391520" y="5486400"/>
            <a:ext cx="1280880" cy="1143000"/>
          </a:xfrm>
          <a:prstGeom prst="rightArrow">
            <a:avLst>
              <a:gd name="adj1" fmla="val 50000"/>
              <a:gd name="adj2" fmla="val 2801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7467480" y="586728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chno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914400" y="304920"/>
            <a:ext cx="678168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99"/>
                </a:solidFill>
                <a:latin typeface="Techno"/>
              </a:rPr>
              <a:t>What is an Antonym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95280" y="31240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762120" y="1295280"/>
            <a:ext cx="6095880" cy="59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Techno"/>
              </a:rPr>
              <a:t>Antonyms are words that mean the opposite of another wor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echno"/>
              </a:rPr>
              <a:t>Hot - C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echno"/>
              </a:rPr>
              <a:t>Short – T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echno"/>
              </a:rPr>
              <a:t>Big -  Litt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762120" y="1066680"/>
            <a:ext cx="7848360" cy="53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99"/>
                </a:solidFill>
                <a:latin typeface="Techno"/>
              </a:rPr>
              <a:t>What is the Antonym for Countr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66ff99"/>
              </a:buClr>
              <a:buFont typeface="Techno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echno"/>
                <a:hlinkClick r:id="rId2" action="ppaction://hlinksldjump"/>
              </a:rPr>
              <a:t>Summ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66ff99"/>
              </a:buClr>
              <a:buFont typeface="Techno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echno"/>
                <a:hlinkClick r:id="rId3" action="ppaction://hlinksldjump"/>
              </a:rPr>
              <a:t>Hig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66ff99"/>
              </a:buClr>
              <a:buFont typeface="Techno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echno"/>
                <a:hlinkClick r:id="rId4" action="ppaction://hlinksldjump"/>
              </a:rPr>
              <a:t>C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66ff99"/>
              </a:buClr>
              <a:buFont typeface="Techno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echno"/>
                <a:hlinkClick r:id="rId5" action="ppaction://hlinksldjump"/>
              </a:rPr>
              <a:t>Ri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" descr="C:\Program Files\Common Files\Microsoft Shared\Clipart\cagcat50\na01062_.wmf"/>
          <p:cNvPicPr/>
          <p:nvPr/>
        </p:nvPicPr>
        <p:blipFill>
          <a:blip r:embed="rId6"/>
          <a:stretch/>
        </p:blipFill>
        <p:spPr>
          <a:xfrm>
            <a:off x="4495680" y="2133720"/>
            <a:ext cx="365760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1026"/>
          <p:cNvSpPr txBox="1"/>
          <p:nvPr/>
        </p:nvSpPr>
        <p:spPr>
          <a:xfrm rot="403200">
            <a:off x="887400" y="634680"/>
            <a:ext cx="741528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6699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Bud Easy"/>
              </a:rPr>
              <a:t>Congratulations !</a:t>
            </a:r>
            <a:endParaRPr b="1" lang="en-US" sz="8000" spc="1" strike="noStrike">
              <a:ln w="9360">
                <a:solidFill>
                  <a:srgbClr val="6699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Bud Easy"/>
              <a:ea typeface="Bud Easy"/>
            </a:endParaRPr>
          </a:p>
        </p:txBody>
      </p:sp>
      <p:sp>
        <p:nvSpPr>
          <p:cNvPr id="78" name="AutoShape 1027">
            <a:hlinkClick r:id="rId4" action="ppaction://hlinksldjump"/>
          </p:cNvPr>
          <p:cNvSpPr/>
          <p:nvPr/>
        </p:nvSpPr>
        <p:spPr>
          <a:xfrm>
            <a:off x="6858000" y="4800600"/>
            <a:ext cx="1676520" cy="1295280"/>
          </a:xfrm>
          <a:custGeom>
            <a:avLst/>
            <a:gdLst>
              <a:gd name="textAreaLeft" fmla="*/ 209520 w 1676520"/>
              <a:gd name="textAreaRight" fmla="*/ 1467000 w 167652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028"/>
          <p:cNvSpPr/>
          <p:nvPr/>
        </p:nvSpPr>
        <p:spPr>
          <a:xfrm>
            <a:off x="3124080" y="54100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ff"/>
                </a:solidFill>
                <a:latin typeface="Techno"/>
              </a:rPr>
              <a:t>Move on to the next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1028"/>
          <p:cNvSpPr txBox="1"/>
          <p:nvPr/>
        </p:nvSpPr>
        <p:spPr>
          <a:xfrm>
            <a:off x="304920" y="1600200"/>
            <a:ext cx="85820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Keep Trying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1" name="AutoShape 1030">
            <a:hlinkClick r:id="rId4" action="ppaction://hlinksldjump"/>
          </p:cNvPr>
          <p:cNvSpPr/>
          <p:nvPr/>
        </p:nvSpPr>
        <p:spPr>
          <a:xfrm>
            <a:off x="1066680" y="4648320"/>
            <a:ext cx="1890720" cy="1371600"/>
          </a:xfrm>
          <a:prstGeom prst="leftArrow">
            <a:avLst>
              <a:gd name="adj1" fmla="val 50000"/>
              <a:gd name="adj2" fmla="val 34462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031"/>
          <p:cNvSpPr/>
          <p:nvPr/>
        </p:nvSpPr>
        <p:spPr>
          <a:xfrm>
            <a:off x="3581280" y="518148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ff"/>
                </a:solidFill>
                <a:latin typeface="Techno"/>
              </a:rPr>
              <a:t>Click to go ba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838080" y="685800"/>
            <a:ext cx="7848720" cy="57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66"/>
                </a:solidFill>
                <a:latin typeface="Techno"/>
              </a:rPr>
              <a:t>What is an antonym for alway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66"/>
                </a:solidFill>
                <a:latin typeface="Techno"/>
              </a:rPr>
              <a:t>a. 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Techno"/>
                <a:hlinkClick r:id="rId2" action="ppaction://hlinksldjump"/>
              </a:rPr>
              <a:t>Y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66ff66"/>
              </a:buClr>
              <a:buFont typeface="Techno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echno"/>
                <a:hlinkClick r:id="rId3" action="ppaction://hlinksldjump"/>
              </a:rPr>
              <a:t>Ne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Techno"/>
              </a:rPr>
              <a:t>c.  Someti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Techno"/>
              </a:rPr>
              <a:t>d.  Fore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" descr="C:\Program Files\Common Files\Microsoft Shared\Clipart\cagcat50\dd01352_.wmf"/>
          <p:cNvPicPr/>
          <p:nvPr/>
        </p:nvPicPr>
        <p:blipFill>
          <a:blip r:embed="rId4"/>
          <a:stretch/>
        </p:blipFill>
        <p:spPr>
          <a:xfrm>
            <a:off x="4495680" y="1981080"/>
            <a:ext cx="327672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2"/>
          <p:cNvSpPr txBox="1"/>
          <p:nvPr/>
        </p:nvSpPr>
        <p:spPr>
          <a:xfrm>
            <a:off x="533520" y="1523880"/>
            <a:ext cx="83055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Lucida Sans Typewriter"/>
              </a:rPr>
              <a:t>EXCELLENT!</a:t>
            </a:r>
            <a:endParaRPr b="1" lang="en-US" sz="8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Lucida Sans Typewriter"/>
              <a:ea typeface="Lucida Sans Typewriter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7162920" y="5257800"/>
            <a:ext cx="1600200" cy="1219320"/>
          </a:xfrm>
          <a:custGeom>
            <a:avLst/>
            <a:gdLst>
              <a:gd name="textAreaLeft" fmla="*/ 199800 w 1600200"/>
              <a:gd name="textAreaRight" fmla="*/ 1400400 w 1600200"/>
              <a:gd name="textAreaTop" fmla="*/ 304920 h 1219320"/>
              <a:gd name="textAreaBottom" fmla="*/ 9147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3962520" y="556272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echno"/>
              </a:rPr>
              <a:t>On to the next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1295280" y="1752480"/>
            <a:ext cx="6400800" cy="3429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Ziggy Zoe"/>
              </a:rPr>
              <a:t>Try Again</a:t>
            </a:r>
            <a:endParaRPr b="1" lang="en-US" sz="8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Ziggy Zoe"/>
              <a:ea typeface="Ziggy Zoe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2971800" y="3886200"/>
            <a:ext cx="1814400" cy="1447920"/>
          </a:xfrm>
          <a:prstGeom prst="leftArrow">
            <a:avLst>
              <a:gd name="adj1" fmla="val 50000"/>
              <a:gd name="adj2" fmla="val 313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4952880" y="4343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chno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295280" y="914400"/>
            <a:ext cx="73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99"/>
                </a:solidFill>
                <a:latin typeface="Techno"/>
              </a:rPr>
              <a:t>Let’s play an Antonym Gam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8" descr="ln_gamegoo_on"/>
          <p:cNvPicPr/>
          <p:nvPr/>
        </p:nvPicPr>
        <p:blipFill>
          <a:blip r:embed="rId2"/>
          <a:stretch/>
        </p:blipFill>
        <p:spPr>
          <a:xfrm>
            <a:off x="2743200" y="2895480"/>
            <a:ext cx="3432240" cy="335304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9"/>
          <p:cNvSpPr/>
          <p:nvPr/>
        </p:nvSpPr>
        <p:spPr>
          <a:xfrm>
            <a:off x="7543800" y="5562720"/>
            <a:ext cx="1295280" cy="1019160"/>
          </a:xfrm>
          <a:prstGeom prst="rightArrow">
            <a:avLst>
              <a:gd name="adj1" fmla="val 50000"/>
              <a:gd name="adj2" fmla="val 31773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7620120" y="5867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>
            <a:off x="3352680" y="38862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ff"/>
                </a:solidFill>
                <a:latin typeface="Times New Roman"/>
              </a:rPr>
              <a:t>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6" descr="ed00145_"/>
          <p:cNvPicPr/>
          <p:nvPr/>
        </p:nvPicPr>
        <p:blipFill>
          <a:blip r:embed="rId2"/>
          <a:stretch/>
        </p:blipFill>
        <p:spPr>
          <a:xfrm>
            <a:off x="5257800" y="2971800"/>
            <a:ext cx="3429000" cy="290844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7"/>
          <p:cNvSpPr/>
          <p:nvPr/>
        </p:nvSpPr>
        <p:spPr>
          <a:xfrm>
            <a:off x="838080" y="3352680"/>
            <a:ext cx="2514600" cy="1143000"/>
          </a:xfrm>
          <a:custGeom>
            <a:avLst/>
            <a:gdLst>
              <a:gd name="textAreaLeft" fmla="*/ 336600 w 2514600"/>
              <a:gd name="textAreaRight" fmla="*/ 2178000 w 25146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Click to get to 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WordArt 9"/>
          <p:cNvSpPr txBox="1"/>
          <p:nvPr/>
        </p:nvSpPr>
        <p:spPr>
          <a:xfrm>
            <a:off x="1447920" y="914400"/>
            <a:ext cx="60958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TinkerToy"/>
              </a:rPr>
              <a:t>Synonym Story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TinkerToy"/>
              <a:ea typeface="TinkerToy"/>
            </a:endParaRPr>
          </a:p>
        </p:txBody>
      </p:sp>
      <p:sp>
        <p:nvSpPr>
          <p:cNvPr id="99" name="AutoShape 10"/>
          <p:cNvSpPr/>
          <p:nvPr/>
        </p:nvSpPr>
        <p:spPr>
          <a:xfrm>
            <a:off x="7848720" y="5943600"/>
            <a:ext cx="976320" cy="685800"/>
          </a:xfrm>
          <a:prstGeom prst="rightArrow">
            <a:avLst>
              <a:gd name="adj1" fmla="val 50000"/>
              <a:gd name="adj2" fmla="val 3559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7924680" y="60958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7"/>
          <p:cNvSpPr/>
          <p:nvPr/>
        </p:nvSpPr>
        <p:spPr>
          <a:xfrm>
            <a:off x="228600" y="6094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66ff"/>
                </a:solidFill>
                <a:uFillTx/>
                <a:latin typeface="Techno"/>
              </a:rPr>
              <a:t>Conte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533520" y="1523880"/>
            <a:ext cx="76960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echno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echno"/>
              </a:rPr>
              <a:t>Synonym &amp; Antonym 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echno"/>
              </a:rPr>
              <a:t>Synonym &amp; Antonym Gam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echno"/>
              </a:rPr>
              <a:t>Story Link to Microsoft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echno"/>
              </a:rPr>
              <a:t>Review of Synonyms &amp; Antony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echno"/>
              </a:rPr>
              <a:t>Credits &amp; 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2" descr="bd05094_"/>
          <p:cNvPicPr/>
          <p:nvPr/>
        </p:nvPicPr>
        <p:blipFill>
          <a:blip r:embed="rId2"/>
          <a:stretch/>
        </p:blipFill>
        <p:spPr>
          <a:xfrm>
            <a:off x="6248520" y="609480"/>
            <a:ext cx="228600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66ff"/>
                </a:solidFill>
                <a:uFillTx/>
                <a:latin typeface="Techno"/>
              </a:rPr>
              <a:t>Credits</a:t>
            </a:r>
            <a:r>
              <a:rPr b="1" lang="en-US" sz="4800" spc="-1" strike="noStrike" u="sng">
                <a:solidFill>
                  <a:srgbClr val="ff66ff"/>
                </a:solidFill>
                <a:uFillTx/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echno"/>
              </a:rPr>
              <a:t>Microsoft PowerPoi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echno"/>
              </a:rPr>
              <a:t>Microsoft Wor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3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3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Techno"/>
              </a:rPr>
              <a:t>Bibliograp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echno"/>
              </a:rPr>
              <a:t>Anonymous photograph (image gamego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echno"/>
              </a:rPr>
              <a:t>          </a:t>
            </a:r>
            <a:r>
              <a:rPr b="1" lang="en-US" sz="4000" spc="-1" strike="noStrike">
                <a:solidFill>
                  <a:srgbClr val="ffff00"/>
                </a:solidFill>
                <a:latin typeface="Techno"/>
              </a:rPr>
              <a:t>Retrieved January 11, 2004 www.cogcon.com/gamego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Techno"/>
              </a:rPr>
              <a:t>What is a Synonym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ffff00"/>
                </a:solidFill>
                <a:uFillTx/>
                <a:latin typeface="Techno"/>
              </a:rPr>
              <a:t>A Synonym is a word that has     almost the same or similar mea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echno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echno"/>
              </a:rPr>
              <a:t>Cold - Chil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echno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echno"/>
              </a:rPr>
              <a:t>Vacant - emp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echno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echno"/>
              </a:rPr>
              <a:t>Big - H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990720" y="838080"/>
            <a:ext cx="7619760" cy="56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echno"/>
              </a:rPr>
              <a:t>What is a Synonym for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echno"/>
              </a:rPr>
              <a:t> intelligent</a:t>
            </a:r>
            <a:r>
              <a:rPr b="1" lang="en-US" sz="3600" spc="-1" strike="noStrike">
                <a:solidFill>
                  <a:srgbClr val="ffff00"/>
                </a:solidFill>
                <a:latin typeface="Techno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66ff"/>
              </a:buClr>
              <a:buFont typeface="Techno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echno"/>
                <a:hlinkClick r:id="rId2" action="ppaction://hlinksldjump"/>
              </a:rPr>
              <a:t>Dum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66ff"/>
              </a:buClr>
              <a:buFont typeface="Techno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echno"/>
                <a:hlinkClick r:id="rId3" action="ppaction://hlinksldjump"/>
              </a:rPr>
              <a:t>Sm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66ff"/>
              </a:buClr>
              <a:buFont typeface="Techno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echno"/>
                <a:hlinkClick r:id="rId4" action="ppaction://hlinksldjump"/>
              </a:rPr>
              <a:t>Gl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66ff"/>
              </a:buClr>
              <a:buFont typeface="Techno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echno"/>
                <a:hlinkClick r:id="rId5" action="ppaction://hlinksldjump"/>
              </a:rPr>
              <a:t>Sil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C:\Program Files\Common Files\Microsoft Shared\Clipart\cagcat50\bd00028_.wmf"/>
          <p:cNvPicPr/>
          <p:nvPr/>
        </p:nvPicPr>
        <p:blipFill>
          <a:blip r:embed="rId6"/>
          <a:stretch/>
        </p:blipFill>
        <p:spPr>
          <a:xfrm>
            <a:off x="4419720" y="1905120"/>
            <a:ext cx="366552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1447920" y="1295280"/>
            <a:ext cx="5448240" cy="250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Techno"/>
              </a:rPr>
              <a:t>Fantastic!!!</a:t>
            </a:r>
            <a:endParaRPr b="1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Techno"/>
              <a:ea typeface="Techno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809880" y="5257800"/>
            <a:ext cx="30481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ff"/>
                </a:solidFill>
                <a:latin typeface="Techno"/>
              </a:rPr>
              <a:t>Go to the next P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5">
            <a:hlinkClick r:id="rId2" action="ppaction://hlinksldjump"/>
          </p:cNvPr>
          <p:cNvSpPr/>
          <p:nvPr/>
        </p:nvSpPr>
        <p:spPr>
          <a:xfrm>
            <a:off x="6705720" y="5334120"/>
            <a:ext cx="1904760" cy="1095120"/>
          </a:xfrm>
          <a:prstGeom prst="rightArrow">
            <a:avLst>
              <a:gd name="adj1" fmla="val 50000"/>
              <a:gd name="adj2" fmla="val 4348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2"/>
          <p:cNvSpPr txBox="1"/>
          <p:nvPr/>
        </p:nvSpPr>
        <p:spPr>
          <a:xfrm>
            <a:off x="1219320" y="685800"/>
            <a:ext cx="66294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Techno"/>
              </a:rPr>
              <a:t>OOPS!!</a:t>
            </a:r>
            <a:endParaRPr b="1" lang="en-US" sz="8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Techno"/>
              <a:ea typeface="Techn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Techno"/>
              </a:rPr>
              <a:t>Try Again</a:t>
            </a:r>
            <a:endParaRPr b="1" lang="en-US" sz="8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Techno"/>
              <a:ea typeface="Techno"/>
            </a:endParaRPr>
          </a:p>
        </p:txBody>
      </p:sp>
      <p:sp>
        <p:nvSpPr>
          <p:cNvPr id="55" name="AutoShape 3">
            <a:hlinkClick r:id="rId2" action="ppaction://hlinksldjump"/>
          </p:cNvPr>
          <p:cNvSpPr/>
          <p:nvPr/>
        </p:nvSpPr>
        <p:spPr>
          <a:xfrm>
            <a:off x="609480" y="5105520"/>
            <a:ext cx="2210040" cy="1247760"/>
          </a:xfrm>
          <a:prstGeom prst="leftArrow">
            <a:avLst>
              <a:gd name="adj1" fmla="val 50000"/>
              <a:gd name="adj2" fmla="val 4428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124080" y="54864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echno"/>
              </a:rPr>
              <a:t>Go Back &amp; Try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914400" y="609480"/>
            <a:ext cx="7696080" cy="64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echno"/>
              </a:rPr>
              <a:t>What is the synonym for silen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Techno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echno"/>
                <a:hlinkClick r:id="rId2" action="ppaction://hlinksldjump"/>
              </a:rPr>
              <a:t>Rou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Techno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echno"/>
                <a:hlinkClick r:id="rId3" action="ppaction://hlinksldjump"/>
              </a:rPr>
              <a:t>Expens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Techno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echno"/>
                <a:hlinkClick r:id="rId4" action="ppaction://hlinksldjump"/>
              </a:rPr>
              <a:t>Lou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Techno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echno"/>
                <a:hlinkClick r:id="rId5" action="ppaction://hlinksldjump"/>
              </a:rPr>
              <a:t>Qui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C:\Program Files\Common Files\Microsoft Shared\Clipart\cagcat50\na01441_.wmf"/>
          <p:cNvPicPr/>
          <p:nvPr/>
        </p:nvPicPr>
        <p:blipFill>
          <a:blip r:embed="rId6"/>
          <a:stretch/>
        </p:blipFill>
        <p:spPr>
          <a:xfrm>
            <a:off x="4876920" y="2286000"/>
            <a:ext cx="27003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3"/>
          <p:cNvSpPr txBox="1"/>
          <p:nvPr/>
        </p:nvSpPr>
        <p:spPr>
          <a:xfrm>
            <a:off x="762120" y="1295280"/>
            <a:ext cx="74674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88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ay to Go !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0" name="AutoShape 4"/>
          <p:cNvSpPr/>
          <p:nvPr/>
        </p:nvSpPr>
        <p:spPr>
          <a:xfrm rot="20589600">
            <a:off x="533520" y="457200"/>
            <a:ext cx="8310600" cy="4433760"/>
          </a:xfrm>
          <a:custGeom>
            <a:avLst/>
            <a:gdLst>
              <a:gd name="textAreaLeft" fmla="*/ 0 w 8310600"/>
              <a:gd name="textAreaRight" fmla="*/ 8310960 w 8310600"/>
              <a:gd name="textAreaTop" fmla="*/ 574560 h 4433760"/>
              <a:gd name="textAreaBottom" fmla="*/ 3859200 h 44337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5"/>
          <p:cNvSpPr/>
          <p:nvPr/>
        </p:nvSpPr>
        <p:spPr>
          <a:xfrm>
            <a:off x="1219320" y="5410080"/>
            <a:ext cx="380880" cy="144792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6">
            <a:hlinkClick r:id="rId2" action="ppaction://hlinksldjump"/>
          </p:cNvPr>
          <p:cNvSpPr/>
          <p:nvPr/>
        </p:nvSpPr>
        <p:spPr>
          <a:xfrm>
            <a:off x="7315200" y="5943600"/>
            <a:ext cx="1357200" cy="71424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4952880" y="5410080"/>
            <a:ext cx="2590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echno"/>
              </a:rPr>
              <a:t>Go on to the next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1026"/>
          <p:cNvSpPr txBox="1"/>
          <p:nvPr/>
        </p:nvSpPr>
        <p:spPr>
          <a:xfrm>
            <a:off x="457200" y="1143000"/>
            <a:ext cx="81532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Impact"/>
              </a:rPr>
              <a:t>Better Luck Next Time</a:t>
            </a:r>
            <a:endParaRPr b="1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AutoShape 1027">
            <a:hlinkClick r:id="rId2" action="ppaction://hlinksldjump"/>
          </p:cNvPr>
          <p:cNvSpPr/>
          <p:nvPr/>
        </p:nvSpPr>
        <p:spPr>
          <a:xfrm>
            <a:off x="762120" y="4572000"/>
            <a:ext cx="2057400" cy="1752480"/>
          </a:xfrm>
          <a:custGeom>
            <a:avLst/>
            <a:gdLst>
              <a:gd name="textAreaLeft" fmla="*/ 275400 w 2057400"/>
              <a:gd name="textAreaRight" fmla="*/ 1782000 w 2057400"/>
              <a:gd name="textAreaTop" fmla="*/ 270360 h 1752480"/>
              <a:gd name="textAreaBottom" fmla="*/ 130716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669" stAng="-5400000" swAng="5400000"/>
                <a:lnTo>
                  <a:pt x="21600" y="12775"/>
                </a:lnTo>
                <a:arcTo wR="21600" hR="6669" stAng="0" swAng="2467798"/>
                <a:lnTo>
                  <a:pt x="7200" y="21219"/>
                </a:lnTo>
                <a:lnTo>
                  <a:pt x="0" y="16391"/>
                </a:lnTo>
                <a:lnTo>
                  <a:pt x="7200" y="10801"/>
                </a:lnTo>
                <a:lnTo>
                  <a:pt x="7200" y="12957"/>
                </a:lnTo>
                <a:arcTo wR="21600" hR="6669" stAng="2467798" swAng="-1925801"/>
                <a:lnTo>
                  <a:pt x="19204" y="9722"/>
                </a:lnTo>
                <a:arcTo wR="21600" hR="6669" stAng="-541996" swAng="-4858004"/>
                <a:close/>
              </a:path>
              <a:path fill="darkenLess" w="21600" h="21600">
                <a:moveTo>
                  <a:pt x="0" y="0"/>
                </a:moveTo>
                <a:arcTo wR="21600" hR="6669" stAng="-5400000" swAng="5400000"/>
                <a:lnTo>
                  <a:pt x="21600" y="12775"/>
                </a:lnTo>
                <a:arcTo wR="21600" hR="6669" stAng="0" swAng="-541996"/>
                <a:lnTo>
                  <a:pt x="19204" y="9722"/>
                </a:lnTo>
                <a:arcTo wR="21600" hR="6669" stAng="-541996" swAng="-4858004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28"/>
          <p:cNvSpPr/>
          <p:nvPr/>
        </p:nvSpPr>
        <p:spPr>
          <a:xfrm>
            <a:off x="2971800" y="495288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ff"/>
                </a:solidFill>
                <a:latin typeface="Techno"/>
              </a:rPr>
              <a:t>Go back and give it another 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1T17:10:29Z</dcterms:created>
  <dc:creator>Lyman Teacher</dc:creator>
  <dc:description/>
  <dc:language>en-US</dc:language>
  <cp:lastModifiedBy>... ...</cp:lastModifiedBy>
  <dcterms:modified xsi:type="dcterms:W3CDTF">2011-07-08T03:07:21Z</dcterms:modified>
  <cp:revision>33</cp:revision>
  <dc:subject/>
  <dc:title>What are</dc:title>
</cp:coreProperties>
</file>